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AE6-A5AF-48BD-A728-62612115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7E8-C4A6-43D4-B37E-5D7D1E89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48-10DD-44DC-8B6B-C4CBFB27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4E-47E4-4B45-A8C5-5CAF67DD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31C-3FFD-44E8-865A-798A1700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13F-4507-4B48-87A5-8679F4A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F58-DB02-455A-9221-B38EF5B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6CB-DBE7-4BDF-8636-4597058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810-A661-4B6F-9A9F-10DE24E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038-E00C-4E0F-84DF-A6ACDD6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C27-12E8-4063-92A4-4479BD9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7A8-491C-445C-B8A5-6C6B340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8C5-2342-445C-B261-15AD1A6F8EC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7 S Pánom všetko začín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 mu ako die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, on nikdy nesklame 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na jeho rady db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a nežne k tebe skláň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ruky vždy ťa chrá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sa spolieh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i dáva silu k boj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áva prácu tvoj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 mu chválu vzd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7:55Z</dcterms:modified>
  <cp:revision>70</cp:revision>
  <dc:subject/>
  <dc:title>Je veľký náš Pán, on slávy je Kráľ Nech do všetkých strán  spev vrúcnych znie chvál.</dc:title>
</cp:coreProperties>
</file>